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5.png" ContentType="image/png"/>
  <Override PartName="/ppt/media/image14.png" ContentType="image/png"/>
  <Override PartName="/ppt/media/image9.png" ContentType="image/png"/>
  <Override PartName="/ppt/media/image1.wmf" ContentType="image/x-wmf"/>
  <Override PartName="/ppt/media/image6.png" ContentType="image/png"/>
  <Override PartName="/ppt/media/image11.png" ContentType="image/png"/>
  <Override PartName="/ppt/media/image13.wmf" ContentType="image/x-wmf"/>
  <Override PartName="/ppt/media/image5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01FC-3D80-4511-842E-62DF110761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310E-8000-4C92-BB94-21FCC3D917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1A5-15E9-490D-98D7-0923788E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154C-D049-4287-A1FB-604B3510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16E9C-F3E7-40CD-9A15-D0387CD3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14609-02EC-4F16-852C-CDC640CF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D42F1-21E3-4C64-8318-7CE28A76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3B91D-01E5-49CE-A6A2-DEB5248C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DB69A-4B1D-4789-913A-FFB5A315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AE61A-BBB2-4AE5-8198-B341223D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D6E0F-4BCE-408F-831A-9382802A5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6C072-66ED-4B3E-9FA3-78C1CA658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6B851-5656-4F36-BFAC-2442B3E9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FE573-459F-4797-8380-94DABE24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FAF-47EA-476E-93BF-0891213A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8F1001-5CE3-4C69-B808-DFD8DEE1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9FD91-BFAF-4870-8324-B4E0BC28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DD97E-CAAC-429D-A046-0EDC74CE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9795E-5801-4A97-9263-3F0D40A5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5E4A01-4FE8-486D-A981-5C4EE81C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302C3-882C-4469-84C3-B13EBED9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18A0D-664A-4C0A-AE6B-84A6972C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3353A-7C04-46F3-8BA4-8368E2F3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5D798-99CE-4325-A0BA-6B561758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F71EA-C1BC-4F26-B456-46B15806C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832C-8A46-4764-923E-77F8AF09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9EB8B-C093-405A-9921-E4909455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FDD14D-F1B1-4E22-95ED-BFE271A7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E517C-F578-4D87-B206-4A57F239D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89C1B-A28E-4EFA-89EC-815313DD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D0A4C-F75B-402B-86BF-55D1AB0E4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A9C06-14BB-4F00-8709-D4B298B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80362-FE6E-43E6-ADAA-AEA8473A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7939C-5FCB-4188-A600-770D4F8B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BEA4DE-752E-4577-9E0D-6F5433C7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84221-C816-4BE6-98D2-A29AB25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D47C-E255-4A28-9943-9C6AD187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E44A0-05E3-404C-B675-46D33B57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22D08-F195-48FA-AA5B-65DF99F4C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2E33E-CAE6-4F0B-A74A-E1A6371A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911FC-D71C-4AE8-98C5-61B68A208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D0146-CA7E-44FE-916E-98957919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8CE79-B450-47CD-9DA3-5F404C53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7D3CC-898C-4373-AFB5-B93C9EE6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0420D-CC98-4A84-A184-F6BB5DB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3EC4F-4B08-4ABD-B66A-CD57CF2B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BC3B8-DD5D-44A7-9E5A-F0415709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4852-1A74-48F3-B7CF-9DC00EC0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6CDCD-48A2-4CF8-8154-9D7E3235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367EA-BCC4-46CA-9F57-5E3E7F13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0E2D3-0D8A-471D-8727-163E302C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339A34-15B9-4BC0-8FAC-99F00D555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93E8F-A72F-4AAB-8BDD-75F93270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4AA25DA-930B-45EE-A975-0C29E7CE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7F1419-F454-45F9-B3EB-3C18A618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844CC8-656E-4354-9F33-BDFB6E9D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740515-B151-4B31-A8CC-4EA65EDC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0B916C4-1C65-4EE4-9681-49229CDB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B4F8-6F9B-42C4-A222-5AC3256D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F99E1A-28C9-4B48-A434-1FE662D5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67C1EAC-8E81-43E0-BD8F-922458DD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522842-A571-4984-91A9-B1FF7744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5E1E55-2A70-48F3-B3A7-428EE6EA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5214F7-72F8-4324-9FBE-B094EB70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8D652C-A103-4087-A01E-AB543A30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7E677C-49E7-42E9-82E5-957E89E36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CD45843-7B2F-4E98-8446-574AE5E0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D8C5F9-A215-490F-8CCE-B7B99280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AD73314-3B47-4640-A336-50FA8FD7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8B98-1DAA-4DC4-829E-8F940B0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B35702-C7AE-444A-B71E-F014AA5F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D92DADE-C9C6-41AA-942E-6CB456E2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CAC52F-E09F-4B89-932D-894F7247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169D53B-EBFF-4DA8-8DF4-CE7263ED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FA3BC2-363B-47A1-B087-351B0A00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F62BA11-F4A3-488B-A2A9-F7E6AB9A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6B178F8-2C18-4FD6-9D03-FF8B19F8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19642C-5DD4-4415-953A-85B5CF42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09A1521-ECA0-4C84-BFD4-8AB1B9FF4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E9506-F67B-4EAA-93B7-7861F6B83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99EE-641D-45A4-B342-8033521F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55C8B5-6D25-481D-B93E-1F7E2BF2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2B95E-5C49-4AA2-9081-8C6CEB7F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C0D4F-8C53-4833-82F6-0614B1E5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42DB63-ED7B-4C60-9D6C-08397313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CDE66-3681-42FF-BA9A-2A7D9FEE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A7A3E-4814-4E1F-B254-8927D377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7A244-E023-4352-9616-E283FACB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616305-638A-464A-BBC7-7233B7CB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63E6CE-8D54-4803-A6DE-0636D185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0983A-8DF4-44E4-A57B-E5A503332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DE87-B89F-443D-A831-AF9B4AEA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543DE1-6C89-49D7-B5FE-7802D3CE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FE1E5F1-8138-4FF2-BDE6-B73F91B7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264677-D87B-41B5-8690-BBDF7B98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37A441-47B1-4A7A-9EAA-3E37DB1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7E57B5-3F45-48E8-8B54-4F75AEB9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67E99C6-F469-4768-8068-0DF4B176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E1209D-8F7C-4BFA-B58E-1DD9D50B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A82CB28-8B46-4F1B-AD30-6BADD118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C3827B3-B305-4DC8-9F28-FEC6B526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0808821-12B1-4032-AF05-67F0145F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51F1-B4D6-444F-8B5F-6ECCA091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AC5BE9-CB97-4329-863F-F37CC5AB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271BD24-1552-4257-B10C-D2E69FB1E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508925-EB16-47E0-96E1-E786888C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E0D8-C9AD-4A5F-8299-C924C876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DF82A-AD32-4D07-8746-3C8F91F0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DA97-775A-48FA-B53F-CFF1C011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63E3-6E54-4420-9BA8-98DE0A78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B228E-FD74-4A80-AD08-2022F9A1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5B71-2748-4B13-9CEF-B74336CD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8E5FA-5917-4192-AE70-EEB26C0E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B1EF-1D76-40C2-AF34-7EE8329A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83B7B-5049-40DB-8F54-B21A2829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DE604-C760-43E4-A6FA-F092E78D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31E36-E752-431A-8591-6F970D28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02F6-A305-4591-9BC4-1FE70C36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2D02-B331-4082-9459-1670727D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F7F26-1D47-42EC-B866-7538DD3B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F8EF6-CCF4-4BB7-9277-57929490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D82A5-7748-4EE0-BE0E-F2F01A81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8199-9173-4F19-AED4-49ED735D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D632D-4A03-4B79-9FC9-A55ED40A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6E63-33C4-4088-80B5-C176980B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300D9-AAC6-429C-ACE3-29B1D4BA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895FC-DA9F-4A17-8D15-BF4F3037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0A1C-EE96-44C1-9EB3-606E5B5A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6A5-CF4D-4E4F-966B-1746821B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2578-AA29-4184-98CC-A736C75AB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52C33-041B-4D44-B91C-8E38D2BC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051F-5CA7-4293-93EE-C264D083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F2FE3-66E1-4003-BF98-6FB14317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4D7AD-BDB4-4BFD-900F-80B0DA7E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B604C-62BA-4F90-B1D4-960EB321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6A988-526D-412B-A6A4-AC3D5D56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E5D8C-2223-4FEA-B29A-32C432633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2C43-1CBF-4611-8198-DD6FECB4A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2E318-ADB8-4D03-8CAC-F6C34535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7E5-38C0-4BB2-A1BA-0E8D2ECB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9B1C8-CA83-4A42-9676-DCC7FF5F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E4CE6-3E1F-40CC-8CC4-39E592A6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DD374-72EC-4001-8ECF-DDE2827C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7D56D-51A5-4F0C-9CCB-083DEF1C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D90CE-B83B-4EF5-8B5F-FDF9565B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1B7C-0594-4D53-BB0D-74EF7445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5A340-9765-42F7-9B28-D0E88C8B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60C69-D0CD-46D2-8F13-C9CA3066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1FE26-1AF6-4602-94E4-4D900C70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0DFAD-8B86-42E8-8F2F-1E591C1E6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A01-D601-414A-8931-06A84BB9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96C19-BFD3-4E07-A009-51CC2EFF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5A35C-E7A4-4FD0-9C93-1A2FB8D2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F4A73-A7CE-426D-A23D-7A9BBA96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9532E-6ADD-49C6-835B-4A8216A0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F5121-1FAE-41F3-8B39-66C6E85F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2769E-7707-4B5D-8F5D-5B94A504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761E1-8B18-4F38-A8E2-EB35C751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B29CEC-DB7C-44EC-B2A3-7586B0EE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33811-D683-47C8-96B2-CDEDE3A1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FBCA3-4919-4718-B2AA-35FD50E0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DF26-98DC-4813-9B04-EBDC690B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DFF86-1DE4-41BD-BC8E-417C9D86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2ECF2-6C2F-4F95-8767-0EECCC1E8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D9DC6-AD94-4812-BE77-3D1CDC89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35E4-466F-4BF7-917D-945A4425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AA55-BA85-4F91-930C-803DA952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9CE2E-26D5-4AB4-B7C3-8BB85CFB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ADB1E-9109-470F-852C-AF5C6041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5C42C-3764-460E-88AE-BC212CBD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231B0-4E85-43BB-9A4F-47FC77CE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CE958-D701-45B2-AC23-6B2ECE39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FE3-4A25-49E6-B305-C26ABE21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9AA98-7964-41DF-A69D-BEDDA293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8B4EA-7650-44C9-ACA6-678F5461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CC43B-DE81-4DF1-B789-1C412BE4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0D4B1-8C06-4AE2-B877-B28A1ADC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9379F-B4F4-4F65-8D49-872FFB74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A54DA-FD50-4B7D-A4C2-191A533D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C3BFA-4C4F-4EDE-92A2-10B5DCEF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B2A64-F303-409E-9509-8523C4F1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39D95-56C2-4F13-8A85-348F37B5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93464-E387-4BAD-93F0-3B3F66868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AC9-7F4C-4505-833D-DCF2060E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23A36-4253-4E21-8438-B3999271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07C6C-B3DE-4150-9918-9343ACEF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35D8E-28CB-4DFC-828C-48D2A0C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8911A-6119-48A5-8C6C-0CB12684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F87C1-368B-43B1-B2C8-4A9C2526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ACD57-7AEF-4632-8809-A34DDE4B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82F79-FBE4-4D98-AC97-D4BDC6755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70597-BF9F-4665-98C5-8E9595CE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CF9A0-5E75-4557-A742-D13659BF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6E057-E7CF-412A-9DFF-E41ECD68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15CB7-89D2-443B-818A-00BEA80280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0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89C2-1DBC-43EC-8FD4-ED19616E0A2B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AE25-2F9A-41C9-BCFA-51EDF94C7A78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6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08B8-151B-4DD3-BF31-F3CACCF2F49E}" type="slidenum">
              <a:rPr b="0" lang="ru-RU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sldNum" idx="37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1D9A-200E-4BDE-924E-9F7630A16FC0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dt" idx="38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ftr" idx="39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sldNum" idx="4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2655-3C28-4B5F-A34A-778CEF553883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dt" idx="41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ftr" idx="42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ftr" idx="4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 type="sldNum" idx="4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E06B-7035-4FA6-9F22-86796163D650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sldNum" idx="46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CB98-AD12-4F53-919A-6D699E5A60E8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dt" idx="4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ftr" idx="4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521-C227-498F-988C-531A75B0FFD9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2823-4AD0-49B6-B4EB-5451225DE0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7280-217A-49DD-A1A1-F7C141493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6A78-1C2F-4BEC-BFFC-AAEDA81750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718C-D88C-4F48-AC5E-668FF8CE08FF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A9B1-D9C1-48A4-9DFC-D190FAC9CF41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ftr" idx="2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dt" idx="2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109F-64FF-4F72-BF63-8F3B530B308F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9362-F0BB-49A1-9776-1BF29551EB3B}" type="slidenum">
              <a:rPr b="0" lang="ru-RU" sz="1600" spc="-1" strike="noStrike">
                <a:solidFill>
                  <a:srgbClr val="7b989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WordArt 5"/>
          <p:cNvSpPr txBox="1"/>
          <p:nvPr/>
        </p:nvSpPr>
        <p:spPr>
          <a:xfrm>
            <a:off x="1258920" y="1989000"/>
            <a:ext cx="6697800" cy="33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70c0"/>
                  </a:solidFill>
                  <a:miter/>
                </a:ln>
                <a:solidFill>
                  <a:srgbClr val="0070c0"/>
                </a:solidFill>
                <a:latin typeface="Book Antiqua"/>
              </a:rPr>
              <a:t>ГЕОМЕТРИЧЕСКИЕ  ФИГУРЫ</a:t>
            </a:r>
            <a:endParaRPr b="1" lang="en-US" sz="3200" spc="1" strike="noStrike">
              <a:ln w="9360">
                <a:solidFill>
                  <a:srgbClr val="0070c0"/>
                </a:solidFill>
                <a:miter/>
              </a:ln>
              <a:solidFill>
                <a:srgbClr val="0070c0"/>
              </a:solidFill>
              <a:latin typeface="Book Antiqua"/>
              <a:ea typeface="Book Antiqua"/>
            </a:endParaRPr>
          </a:p>
        </p:txBody>
      </p:sp>
      <p:pic>
        <p:nvPicPr>
          <p:cNvPr id="778" name="Picture 8" descr="GEOMTRY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2050920" y="3068640"/>
            <a:ext cx="4946760" cy="2881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8" descr="http://priroda77.narod.ru/pictures/salyt/fe_we_19.gif"/>
          <p:cNvPicPr/>
          <p:nvPr/>
        </p:nvPicPr>
        <p:blipFill>
          <a:blip r:embed="rId2"/>
          <a:stretch/>
        </p:blipFill>
        <p:spPr>
          <a:xfrm>
            <a:off x="1403280" y="1125360"/>
            <a:ext cx="6546960" cy="48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36600"/>
          </a:xfrm>
          <a:prstGeom prst="rect">
            <a:avLst/>
          </a:prstGeom>
          <a:ln w="0">
            <a:noFill/>
          </a:ln>
        </p:spPr>
      </p:pic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3399"/>
                </a:solidFill>
                <a:latin typeface="Book Antiqua"/>
              </a:rPr>
              <a:t>Квадрат – прямоугольник, у  которого  все  стороны  равн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Rectangle 12"/>
          <p:cNvSpPr/>
          <p:nvPr/>
        </p:nvSpPr>
        <p:spPr>
          <a:xfrm>
            <a:off x="5940360" y="3357720"/>
            <a:ext cx="2808360" cy="2808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14"/>
          <p:cNvSpPr/>
          <p:nvPr/>
        </p:nvSpPr>
        <p:spPr>
          <a:xfrm>
            <a:off x="2050920" y="4653000"/>
            <a:ext cx="1656000" cy="165564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15"/>
          <p:cNvSpPr/>
          <p:nvPr/>
        </p:nvSpPr>
        <p:spPr>
          <a:xfrm rot="1488600">
            <a:off x="684000" y="2997000"/>
            <a:ext cx="1152360" cy="1152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16"/>
          <p:cNvSpPr/>
          <p:nvPr/>
        </p:nvSpPr>
        <p:spPr>
          <a:xfrm rot="18778800">
            <a:off x="3708360" y="3141000"/>
            <a:ext cx="1439640" cy="14400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Rectangle 2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1305000"/>
          </a:xfrm>
          <a:prstGeom prst="rect">
            <a:avLst/>
          </a:prstGeom>
          <a:ln w="0">
            <a:noFill/>
          </a:ln>
        </p:spPr>
      </p:pic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99"/>
                </a:solidFill>
                <a:latin typeface="Book Antiqua"/>
              </a:rPr>
              <a:t>Многоугольники  называются  по  числу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Book Antiqua"/>
              </a:rPr>
              <a:t>    </a:t>
            </a:r>
            <a:r>
              <a:rPr b="1" lang="ru-RU" sz="3200" spc="-1" strike="noStrike">
                <a:solidFill>
                  <a:srgbClr val="003399"/>
                </a:solidFill>
                <a:latin typeface="Book Antiqua"/>
              </a:rPr>
              <a:t>углов. В  многоугольнике  столько  вершин  и  сторон, сколько  углов</a:t>
            </a:r>
            <a:r>
              <a:rPr b="1" lang="ru-RU" sz="3200" spc="-1" strike="noStrike">
                <a:solidFill>
                  <a:srgbClr val="000099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AutoShape 4"/>
          <p:cNvSpPr/>
          <p:nvPr/>
        </p:nvSpPr>
        <p:spPr>
          <a:xfrm>
            <a:off x="684360" y="3429000"/>
            <a:ext cx="2232000" cy="2154240"/>
          </a:xfrm>
          <a:prstGeom prst="octagon">
            <a:avLst>
              <a:gd name="adj" fmla="val 29287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5"/>
          <p:cNvSpPr/>
          <p:nvPr/>
        </p:nvSpPr>
        <p:spPr>
          <a:xfrm>
            <a:off x="3419640" y="2924280"/>
            <a:ext cx="2376360" cy="2200320"/>
          </a:xfrm>
          <a:prstGeom prst="hexagon">
            <a:avLst>
              <a:gd name="adj" fmla="val 27000"/>
              <a:gd name="vf" fmla="val 115470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6"/>
          <p:cNvSpPr/>
          <p:nvPr/>
        </p:nvSpPr>
        <p:spPr>
          <a:xfrm>
            <a:off x="6516720" y="3645000"/>
            <a:ext cx="2006640" cy="2087640"/>
          </a:xfrm>
          <a:prstGeom prst="pentagon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7"/>
          <p:cNvSpPr/>
          <p:nvPr/>
        </p:nvSpPr>
        <p:spPr>
          <a:xfrm>
            <a:off x="539640" y="602136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8"/>
          <p:cNvSpPr/>
          <p:nvPr/>
        </p:nvSpPr>
        <p:spPr>
          <a:xfrm>
            <a:off x="179280" y="566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осьм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9"/>
          <p:cNvSpPr/>
          <p:nvPr/>
        </p:nvSpPr>
        <p:spPr>
          <a:xfrm>
            <a:off x="2916360" y="522936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шес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1"/>
          <p:cNvSpPr/>
          <p:nvPr/>
        </p:nvSpPr>
        <p:spPr>
          <a:xfrm>
            <a:off x="6156360" y="573264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1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7" dur="20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1" dur="2000"/>
                                        <p:tgtEl>
                                          <p:spTgt spid="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5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Box 1"/>
          <p:cNvSpPr/>
          <p:nvPr/>
        </p:nvSpPr>
        <p:spPr>
          <a:xfrm>
            <a:off x="5324400" y="549360"/>
            <a:ext cx="22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Georgia"/>
              </a:rPr>
              <a:t>рефлек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2"/>
          <p:cNvSpPr/>
          <p:nvPr/>
        </p:nvSpPr>
        <p:spPr>
          <a:xfrm>
            <a:off x="1332000" y="0"/>
            <a:ext cx="42480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Georgia"/>
              </a:rPr>
              <a:t>подведем итоги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егодня я узн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ыло интерес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было трудн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 выполнял зад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 поня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теперь я мог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 почувствовал, чт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 приобре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 научилс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 меня получилось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 смо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я попробую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еня удиви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урок дал мне для жизн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мне захотелось</a:t>
            </a: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6" descr="меланх6(большой)"/>
          <p:cNvPicPr/>
          <p:nvPr/>
        </p:nvPicPr>
        <p:blipFill>
          <a:blip r:embed="rId1"/>
          <a:stretch/>
        </p:blipFill>
        <p:spPr>
          <a:xfrm>
            <a:off x="6858000" y="2143080"/>
            <a:ext cx="1908000" cy="2448000"/>
          </a:xfrm>
          <a:prstGeom prst="rect">
            <a:avLst/>
          </a:prstGeom>
          <a:ln w="0">
            <a:noFill/>
          </a:ln>
        </p:spPr>
      </p:pic>
      <p:pic>
        <p:nvPicPr>
          <p:cNvPr id="858" name="Picture 6" descr="вини-пух1"/>
          <p:cNvPicPr/>
          <p:nvPr/>
        </p:nvPicPr>
        <p:blipFill>
          <a:blip r:embed="rId2"/>
          <a:stretch/>
        </p:blipFill>
        <p:spPr>
          <a:xfrm>
            <a:off x="5435640" y="3789360"/>
            <a:ext cx="1763640" cy="283068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1" descr="http://gloubiweb.free.fr/clipartsA9/objet136.gif"/>
          <p:cNvPicPr/>
          <p:nvPr/>
        </p:nvPicPr>
        <p:blipFill>
          <a:blip r:embed="rId3"/>
          <a:stretch/>
        </p:blipFill>
        <p:spPr>
          <a:xfrm>
            <a:off x="5580000" y="3573360"/>
            <a:ext cx="194472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57200" y="765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Урок математики мы начинаем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Тайны ее открывать продолжа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2" name="Picture 2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51640" cy="33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Rectangle 2" descr=""/>
          <p:cNvPicPr/>
          <p:nvPr/>
        </p:nvPicPr>
        <p:blipFill>
          <a:blip r:embed="rId1"/>
          <a:stretch/>
        </p:blipFill>
        <p:spPr>
          <a:xfrm>
            <a:off x="433440" y="0"/>
            <a:ext cx="8521560" cy="196200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038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ТОЧ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ОТРЕЗ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ЛУ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      </a:t>
            </a: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УГ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Line 24"/>
          <p:cNvSpPr/>
          <p:nvPr/>
        </p:nvSpPr>
        <p:spPr>
          <a:xfrm flipV="1">
            <a:off x="4500720" y="2923920"/>
            <a:ext cx="3816360" cy="2156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8"/>
          <p:cNvGrpSpPr/>
          <p:nvPr/>
        </p:nvGrpSpPr>
        <p:grpSpPr>
          <a:xfrm>
            <a:off x="4305240" y="4189680"/>
            <a:ext cx="3487680" cy="790560"/>
            <a:chOff x="4305240" y="4189680"/>
            <a:chExt cx="3487680" cy="790560"/>
          </a:xfrm>
        </p:grpSpPr>
        <p:sp>
          <p:nvSpPr>
            <p:cNvPr id="787" name="Line 16"/>
            <p:cNvSpPr/>
            <p:nvPr/>
          </p:nvSpPr>
          <p:spPr>
            <a:xfrm flipH="1">
              <a:off x="4305240" y="4363920"/>
              <a:ext cx="3331080" cy="616320"/>
            </a:xfrm>
            <a:prstGeom prst="line">
              <a:avLst/>
            </a:prstGeom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Oval 34"/>
            <p:cNvSpPr/>
            <p:nvPr/>
          </p:nvSpPr>
          <p:spPr>
            <a:xfrm flipH="1" rot="20824800">
              <a:off x="7554960" y="421092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Oval 48"/>
          <p:cNvSpPr/>
          <p:nvPr/>
        </p:nvSpPr>
        <p:spPr>
          <a:xfrm>
            <a:off x="6156360" y="2133720"/>
            <a:ext cx="216000" cy="215640"/>
          </a:xfrm>
          <a:prstGeom prst="ellipse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0" name="Group 55"/>
          <p:cNvGrpSpPr/>
          <p:nvPr/>
        </p:nvGrpSpPr>
        <p:grpSpPr>
          <a:xfrm>
            <a:off x="4356000" y="3645000"/>
            <a:ext cx="3600360" cy="360000"/>
            <a:chOff x="4356000" y="3645000"/>
            <a:chExt cx="3600360" cy="360000"/>
          </a:xfrm>
        </p:grpSpPr>
        <p:grpSp>
          <p:nvGrpSpPr>
            <p:cNvPr id="791" name="Group 49"/>
            <p:cNvGrpSpPr/>
            <p:nvPr/>
          </p:nvGrpSpPr>
          <p:grpSpPr>
            <a:xfrm>
              <a:off x="4356000" y="3789000"/>
              <a:ext cx="3529080" cy="216000"/>
              <a:chOff x="4356000" y="3789000"/>
              <a:chExt cx="3529080" cy="216000"/>
            </a:xfrm>
          </p:grpSpPr>
          <p:sp>
            <p:nvSpPr>
              <p:cNvPr id="792" name="Line 50"/>
              <p:cNvSpPr/>
              <p:nvPr/>
            </p:nvSpPr>
            <p:spPr>
              <a:xfrm flipV="1">
                <a:off x="4500720" y="3789000"/>
                <a:ext cx="3384360" cy="144360"/>
              </a:xfrm>
              <a:prstGeom prst="line">
                <a:avLst/>
              </a:prstGeom>
              <a:ln w="5724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Oval 51"/>
              <p:cNvSpPr/>
              <p:nvPr/>
            </p:nvSpPr>
            <p:spPr>
              <a:xfrm>
                <a:off x="4356000" y="378936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9b2d2a"/>
                  </a:gs>
                  <a:gs pos="100000">
                    <a:srgbClr val="ce3b37"/>
                  </a:gs>
                </a:gsLst>
                <a:lin ang="16200000"/>
              </a:gradFill>
              <a:ln w="9360">
                <a:solidFill>
                  <a:srgbClr val="be4b48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Oval 52"/>
            <p:cNvSpPr/>
            <p:nvPr/>
          </p:nvSpPr>
          <p:spPr>
            <a:xfrm>
              <a:off x="7740360" y="3645000"/>
              <a:ext cx="216000" cy="216000"/>
            </a:xfrm>
            <a:prstGeom prst="ellipse">
              <a:avLst/>
            </a:prstGeom>
            <a:gradFill rotWithShape="0">
              <a:gsLst>
                <a:gs pos="0">
                  <a:srgbClr val="9b2d2a"/>
                </a:gs>
                <a:gs pos="100000">
                  <a:srgbClr val="ce3b37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Group 56"/>
          <p:cNvGrpSpPr/>
          <p:nvPr/>
        </p:nvGrpSpPr>
        <p:grpSpPr>
          <a:xfrm>
            <a:off x="3967200" y="4914000"/>
            <a:ext cx="3589920" cy="1216440"/>
            <a:chOff x="3967200" y="4914000"/>
            <a:chExt cx="3589920" cy="1216440"/>
          </a:xfrm>
        </p:grpSpPr>
        <p:sp>
          <p:nvSpPr>
            <p:cNvPr id="796" name="Line 43"/>
            <p:cNvSpPr/>
            <p:nvPr/>
          </p:nvSpPr>
          <p:spPr>
            <a:xfrm>
              <a:off x="4143960" y="5979600"/>
              <a:ext cx="3413160" cy="150840"/>
            </a:xfrm>
            <a:prstGeom prst="line">
              <a:avLst/>
            </a:prstGeom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44"/>
            <p:cNvSpPr/>
            <p:nvPr/>
          </p:nvSpPr>
          <p:spPr>
            <a:xfrm flipV="1">
              <a:off x="4143600" y="4914000"/>
              <a:ext cx="3215880" cy="1063800"/>
            </a:xfrm>
            <a:prstGeom prst="line">
              <a:avLst/>
            </a:prstGeom>
            <a:ln w="572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54"/>
            <p:cNvSpPr/>
            <p:nvPr/>
          </p:nvSpPr>
          <p:spPr>
            <a:xfrm rot="20646600">
              <a:off x="3992400" y="5846040"/>
              <a:ext cx="216000" cy="215640"/>
            </a:xfrm>
            <a:prstGeom prst="ellipse">
              <a:avLst/>
            </a:prstGeom>
            <a:solidFill>
              <a:srgbClr val="f41454"/>
            </a:solidFill>
            <a:ln w="57240">
              <a:solidFill>
                <a:srgbClr val="f41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Rectangle 2" descr=""/>
          <p:cNvPicPr/>
          <p:nvPr/>
        </p:nvPicPr>
        <p:blipFill>
          <a:blip r:embed="rId1"/>
          <a:stretch/>
        </p:blipFill>
        <p:spPr>
          <a:xfrm>
            <a:off x="542880" y="0"/>
            <a:ext cx="8229600" cy="123840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РАЗНОСТОРОННИЙ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- ТРЕУГОЛЬНИК, У  КОТОРОГО  ВСЕ  СТОРОНЫ  РАЗНОЙ  ДЛИ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РАВНОБЕДРЕННЫЙ</a:t>
            </a:r>
            <a:r>
              <a:rPr b="1" lang="ru-RU" sz="2400" spc="-1" strike="noStrike">
                <a:solidFill>
                  <a:srgbClr val="003399"/>
                </a:solidFill>
                <a:latin typeface="Book Antiqua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– ТРЕУГОЛЬНИК, У  КОТОРОГО  ДВЕ  СТОРОНЫ  РАВ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Book Antiqua"/>
              </a:rPr>
              <a:t>РАВНОСТОРОННИЙ</a:t>
            </a:r>
            <a:r>
              <a:rPr b="1" lang="ru-RU" sz="2400" spc="-1" strike="noStrike">
                <a:solidFill>
                  <a:srgbClr val="003399"/>
                </a:solidFill>
                <a:latin typeface="Calibri"/>
              </a:rPr>
              <a:t> –ТРЕУГОЛЬНИК, У  КОТОРОГО  ВСЕ  СТОРОНЫ  РАВН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AutoShape 7"/>
          <p:cNvSpPr/>
          <p:nvPr/>
        </p:nvSpPr>
        <p:spPr>
          <a:xfrm>
            <a:off x="6227640" y="3068640"/>
            <a:ext cx="2519640" cy="13683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9"/>
          <p:cNvSpPr/>
          <p:nvPr/>
        </p:nvSpPr>
        <p:spPr>
          <a:xfrm>
            <a:off x="4716360" y="4724280"/>
            <a:ext cx="1943280" cy="1584360"/>
          </a:xfrm>
          <a:prstGeom prst="triangle">
            <a:avLst>
              <a:gd name="adj" fmla="val 50000"/>
            </a:avLst>
          </a:prstGeom>
          <a:solidFill>
            <a:srgbClr val="e46c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18"/>
          <p:cNvSpPr/>
          <p:nvPr/>
        </p:nvSpPr>
        <p:spPr>
          <a:xfrm>
            <a:off x="5724360" y="1484280"/>
            <a:ext cx="2448000" cy="1081080"/>
          </a:xfrm>
          <a:prstGeom prst="rtTriangle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3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Rectangle 2" descr=""/>
          <p:cNvPicPr/>
          <p:nvPr/>
        </p:nvPicPr>
        <p:blipFill>
          <a:blip r:embed="rId1"/>
          <a:stretch/>
        </p:blipFill>
        <p:spPr>
          <a:xfrm>
            <a:off x="396720" y="0"/>
            <a:ext cx="8229600" cy="1238400"/>
          </a:xfrm>
          <a:prstGeom prst="rect">
            <a:avLst/>
          </a:prstGeom>
          <a:ln w="0">
            <a:noFill/>
          </a:ln>
        </p:spPr>
      </p:pic>
      <p:sp>
        <p:nvSpPr>
          <p:cNvPr id="805" name="PlaceHolder 1"/>
          <p:cNvSpPr>
            <a:spLocks noGrp="1"/>
          </p:cNvSpPr>
          <p:nvPr>
            <p:ph/>
          </p:nvPr>
        </p:nvSpPr>
        <p:spPr>
          <a:xfrm>
            <a:off x="3240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ОСТРОУГОЛЬНЫЙ</a:t>
            </a: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 – ВСЕ  УГЛЫ  ОСТР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ПРЯМОУГОЛЬНЫЙ</a:t>
            </a: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 – ОДИН  УГОЛ  ПРЯМ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 Antiqua"/>
              </a:rPr>
              <a:t>ТУПОУГОЛЬНЫЙ</a:t>
            </a:r>
            <a:r>
              <a:rPr b="1" lang="ru-RU" sz="2800" spc="-1" strike="noStrike">
                <a:solidFill>
                  <a:srgbClr val="003399"/>
                </a:solidFill>
                <a:latin typeface="Calibri"/>
              </a:rPr>
              <a:t> – ОДИН  УГОЛ  ТУП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AutoShape 7"/>
          <p:cNvSpPr/>
          <p:nvPr/>
        </p:nvSpPr>
        <p:spPr>
          <a:xfrm>
            <a:off x="5292720" y="907920"/>
            <a:ext cx="1943280" cy="15843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9"/>
          <p:cNvSpPr/>
          <p:nvPr/>
        </p:nvSpPr>
        <p:spPr>
          <a:xfrm>
            <a:off x="5580000" y="2781360"/>
            <a:ext cx="1656000" cy="1368360"/>
          </a:xfrm>
          <a:prstGeom prst="rtTriangle">
            <a:avLst/>
          </a:prstGeom>
          <a:solidFill>
            <a:srgbClr val="92d050"/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4500720" y="4797360"/>
            <a:ext cx="4114800" cy="12207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3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8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3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8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2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30320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2741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Book Antiqua"/>
              </a:rPr>
              <a:t>В  четырехугольник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Book Antiqua"/>
              </a:rPr>
              <a:t>4  угла, 4  стороны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Book Antiqua"/>
              </a:rPr>
              <a:t> </a:t>
            </a:r>
            <a:r>
              <a:rPr b="1" lang="ru-RU" sz="4800" spc="-1" strike="noStrike">
                <a:solidFill>
                  <a:srgbClr val="003399"/>
                </a:solidFill>
                <a:latin typeface="Book Antiqua"/>
              </a:rPr>
              <a:t>4  вершины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6659640" y="2205000"/>
            <a:ext cx="180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5292720" y="4076640"/>
            <a:ext cx="2016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3203640" y="4437000"/>
            <a:ext cx="3240000" cy="1440000"/>
          </a:xfrm>
          <a:prstGeom prst="parallelogram">
            <a:avLst>
              <a:gd name="adj" fmla="val 5625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21"/>
          <p:cNvGrpSpPr/>
          <p:nvPr/>
        </p:nvGrpSpPr>
        <p:grpSpPr>
          <a:xfrm>
            <a:off x="1116000" y="3860640"/>
            <a:ext cx="7345440" cy="2305080"/>
            <a:chOff x="1116000" y="3860640"/>
            <a:chExt cx="7345440" cy="2305080"/>
          </a:xfrm>
        </p:grpSpPr>
        <p:sp>
          <p:nvSpPr>
            <p:cNvPr id="815" name="Oval 12"/>
            <p:cNvSpPr/>
            <p:nvPr/>
          </p:nvSpPr>
          <p:spPr>
            <a:xfrm>
              <a:off x="1908000" y="5877000"/>
              <a:ext cx="289080" cy="288720"/>
            </a:xfrm>
            <a:prstGeom prst="ellips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4"/>
            <p:cNvSpPr/>
            <p:nvPr/>
          </p:nvSpPr>
          <p:spPr>
            <a:xfrm>
              <a:off x="5724360" y="5877000"/>
              <a:ext cx="289080" cy="288720"/>
            </a:xfrm>
            <a:prstGeom prst="ellips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15"/>
            <p:cNvSpPr/>
            <p:nvPr/>
          </p:nvSpPr>
          <p:spPr>
            <a:xfrm>
              <a:off x="8172360" y="4437000"/>
              <a:ext cx="289080" cy="289080"/>
            </a:xfrm>
            <a:prstGeom prst="ellips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6"/>
            <p:cNvSpPr/>
            <p:nvPr/>
          </p:nvSpPr>
          <p:spPr>
            <a:xfrm>
              <a:off x="1116000" y="3860640"/>
              <a:ext cx="288720" cy="289080"/>
            </a:xfrm>
            <a:prstGeom prst="ellips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17"/>
            <p:cNvSpPr/>
            <p:nvPr/>
          </p:nvSpPr>
          <p:spPr>
            <a:xfrm>
              <a:off x="1331640" y="4005360"/>
              <a:ext cx="6985080" cy="576000"/>
            </a:xfrm>
            <a:prstGeom prst="line">
              <a:avLst/>
            </a:prstGeom>
            <a:ln w="57240">
              <a:solidFill>
                <a:srgbClr val="f41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8"/>
            <p:cNvSpPr/>
            <p:nvPr/>
          </p:nvSpPr>
          <p:spPr>
            <a:xfrm>
              <a:off x="1331640" y="4005360"/>
              <a:ext cx="792360" cy="2016000"/>
            </a:xfrm>
            <a:prstGeom prst="line">
              <a:avLst/>
            </a:prstGeom>
            <a:ln w="57240">
              <a:solidFill>
                <a:srgbClr val="f41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19"/>
            <p:cNvSpPr/>
            <p:nvPr/>
          </p:nvSpPr>
          <p:spPr>
            <a:xfrm>
              <a:off x="2124000" y="6021360"/>
              <a:ext cx="3744720" cy="0"/>
            </a:xfrm>
            <a:prstGeom prst="line">
              <a:avLst/>
            </a:prstGeom>
            <a:ln w="57240">
              <a:solidFill>
                <a:srgbClr val="f41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0"/>
            <p:cNvSpPr/>
            <p:nvPr/>
          </p:nvSpPr>
          <p:spPr>
            <a:xfrm flipV="1">
              <a:off x="5868720" y="4652640"/>
              <a:ext cx="2376720" cy="1368360"/>
            </a:xfrm>
            <a:prstGeom prst="line">
              <a:avLst/>
            </a:prstGeom>
            <a:ln w="57240">
              <a:solidFill>
                <a:srgbClr val="f414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8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4" name=""/>
          <p:cNvGraphicFramePr/>
          <p:nvPr/>
        </p:nvGraphicFramePr>
        <p:xfrm>
          <a:off x="457200" y="1600200"/>
          <a:ext cx="8229600" cy="4781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ЧЕТЫРЕХ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РИСУН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3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13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5" name="Text Box 60"/>
          <p:cNvSpPr/>
          <p:nvPr/>
        </p:nvSpPr>
        <p:spPr>
          <a:xfrm>
            <a:off x="611280" y="285264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ПРЯМО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1"/>
          <p:cNvSpPr/>
          <p:nvPr/>
        </p:nvSpPr>
        <p:spPr>
          <a:xfrm>
            <a:off x="826920" y="4221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КВАДР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62"/>
          <p:cNvSpPr/>
          <p:nvPr/>
        </p:nvSpPr>
        <p:spPr>
          <a:xfrm>
            <a:off x="971640" y="551664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63"/>
          <p:cNvSpPr/>
          <p:nvPr/>
        </p:nvSpPr>
        <p:spPr>
          <a:xfrm>
            <a:off x="611280" y="5589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ТРАПЕ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64"/>
          <p:cNvSpPr/>
          <p:nvPr/>
        </p:nvSpPr>
        <p:spPr>
          <a:xfrm>
            <a:off x="5292720" y="2637000"/>
            <a:ext cx="2664000" cy="86328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65"/>
          <p:cNvSpPr/>
          <p:nvPr/>
        </p:nvSpPr>
        <p:spPr>
          <a:xfrm>
            <a:off x="5867280" y="4005360"/>
            <a:ext cx="936720" cy="9363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66"/>
          <p:cNvSpPr/>
          <p:nvPr/>
        </p:nvSpPr>
        <p:spPr>
          <a:xfrm flipV="1">
            <a:off x="5435640" y="5300640"/>
            <a:ext cx="1944720" cy="936720"/>
          </a:xfrm>
          <a:custGeom>
            <a:avLst/>
            <a:gdLst>
              <a:gd name="textAreaLeft" fmla="*/ 405000 w 1944720"/>
              <a:gd name="textAreaRight" fmla="*/ 1539720 w 194472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3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Rectangle 2" descr=""/>
          <p:cNvPicPr/>
          <p:nvPr/>
        </p:nvPicPr>
        <p:blipFill>
          <a:blip r:embed="rId1"/>
          <a:stretch/>
        </p:blipFill>
        <p:spPr>
          <a:xfrm>
            <a:off x="457200" y="281160"/>
            <a:ext cx="8229600" cy="1236600"/>
          </a:xfrm>
          <a:prstGeom prst="rect">
            <a:avLst/>
          </a:prstGeom>
          <a:ln w="0">
            <a:noFill/>
          </a:ln>
        </p:spPr>
      </p:pic>
      <p:sp>
        <p:nvSpPr>
          <p:cNvPr id="833" name="Rectangle 6"/>
          <p:cNvSpPr/>
          <p:nvPr/>
        </p:nvSpPr>
        <p:spPr>
          <a:xfrm>
            <a:off x="611280" y="3789360"/>
            <a:ext cx="2808360" cy="172872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7"/>
          <p:cNvSpPr/>
          <p:nvPr/>
        </p:nvSpPr>
        <p:spPr>
          <a:xfrm rot="2737200">
            <a:off x="4570920" y="3572640"/>
            <a:ext cx="1297080" cy="273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7380360" y="3573360"/>
            <a:ext cx="1079280" cy="26654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99"/>
                </a:solidFill>
                <a:latin typeface="Book Antiqua"/>
              </a:rPr>
              <a:t>Прямоугольник – это  четырехугольник, у  которого  все  углы  прямые.</a:t>
            </a:r>
            <a:r>
              <a:rPr b="0" lang="ru-RU" sz="3600" spc="-1" strike="noStrike">
                <a:solidFill>
                  <a:srgbClr val="003399"/>
                </a:solidFill>
                <a:latin typeface="Book Antiqu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4007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7:25:54Z</dcterms:created>
  <dc:creator>Преподаватель</dc:creator>
  <dc:description/>
  <dc:language>en-US</dc:language>
  <cp:lastModifiedBy>Библиотека</cp:lastModifiedBy>
  <dcterms:modified xsi:type="dcterms:W3CDTF">2016-01-19T14:00:34Z</dcterms:modified>
  <cp:revision>7</cp:revision>
  <dc:subject/>
  <dc:title>Слайд 1</dc:title>
</cp:coreProperties>
</file>